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B877-7FC5-45F1-9177-FAE76FC90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4623-6DCF-402D-BB3C-0B27B33AD3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4440" y="687240"/>
            <a:ext cx="4569120" cy="3426120"/>
          </a:xfrm>
          <a:prstGeom prst="rect">
            <a:avLst/>
          </a:prstGeom>
          <a:ln w="0">
            <a:noFill/>
          </a:ln>
        </p:spPr>
      </p:sp>
      <p:sp>
        <p:nvSpPr>
          <p:cNvPr id="77" name="PlaceHolder 2"/>
          <p:cNvSpPr>
            <a:spLocks noGrp="1"/>
          </p:cNvSpPr>
          <p:nvPr>
            <p:ph type="body"/>
          </p:nvPr>
        </p:nvSpPr>
        <p:spPr>
          <a:xfrm>
            <a:off x="684360" y="4343400"/>
            <a:ext cx="54892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5A0B-76D0-4256-8FFC-0833C16E73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4440" y="687240"/>
            <a:ext cx="4569120" cy="3426120"/>
          </a:xfrm>
          <a:prstGeom prst="rect">
            <a:avLst/>
          </a:prstGeom>
          <a:ln w="0">
            <a:noFill/>
          </a:ln>
        </p:spPr>
      </p:sp>
      <p:sp>
        <p:nvSpPr>
          <p:cNvPr id="80" name="PlaceHolder 2"/>
          <p:cNvSpPr>
            <a:spLocks noGrp="1"/>
          </p:cNvSpPr>
          <p:nvPr>
            <p:ph type="body"/>
          </p:nvPr>
        </p:nvSpPr>
        <p:spPr>
          <a:xfrm>
            <a:off x="684360" y="4343400"/>
            <a:ext cx="54892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C13E-7FC3-4371-B342-DD7BB95076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4440" y="687240"/>
            <a:ext cx="4569120" cy="3426120"/>
          </a:xfrm>
          <a:prstGeom prst="rect">
            <a:avLst/>
          </a:prstGeom>
          <a:ln w="0">
            <a:noFill/>
          </a:ln>
        </p:spPr>
      </p:sp>
      <p:sp>
        <p:nvSpPr>
          <p:cNvPr id="83" name="PlaceHolder 2"/>
          <p:cNvSpPr>
            <a:spLocks noGrp="1"/>
          </p:cNvSpPr>
          <p:nvPr>
            <p:ph type="body"/>
          </p:nvPr>
        </p:nvSpPr>
        <p:spPr>
          <a:xfrm>
            <a:off x="684360" y="4343400"/>
            <a:ext cx="54892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26A87-36FF-45DF-9726-0A326CECA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5A156-F3C4-4BA0-BC72-EAE5DCEE6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1F96B-E2DB-479D-8AF4-9E893C80A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6EDF3-90EE-486E-BB1C-C35330D7E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D1154-76AF-4336-9900-2AC28A5B3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005C7-EC4A-4925-8A3C-F65AE106E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9C3E0-418C-44F4-B75F-62AFB9A01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8C7F1-E8BF-42DC-9621-CE148A68D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ABCA2-25D9-4F66-B36E-0179E8B8A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7C707-F186-43E1-8FDC-1C110D207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6EFF3-C5D8-48C5-B2E0-A45C889CD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2191-2D9E-4717-A5F7-FB2EC7040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D20E-FEC1-4EE9-9E35-86C73ED333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400" spc="-1" strike="noStrike">
                <a:solidFill>
                  <a:srgbClr val="000000"/>
                </a:solidFill>
                <a:latin typeface="Calibri"/>
              </a:rPr>
              <a:t>Edutool-opinnot</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898989"/>
                </a:solidFill>
                <a:latin typeface="Calibri"/>
              </a:rPr>
              <a:t>Lähitapaaminen 19.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Calibri"/>
              </a:rPr>
              <a:t>Graduseminaarien rakenne</a:t>
            </a:r>
            <a:endParaRPr b="0" lang="en-US" sz="4800" spc="-1" strike="noStrike">
              <a:solidFill>
                <a:srgbClr val="000000"/>
              </a:solidFill>
              <a:latin typeface="Calibri"/>
            </a:endParaRPr>
          </a:p>
        </p:txBody>
      </p:sp>
      <p:sp>
        <p:nvSpPr>
          <p:cNvPr id="64" name=""/>
          <p:cNvSpPr txBox="1"/>
          <p:nvPr/>
        </p:nvSpPr>
        <p:spPr>
          <a:xfrm>
            <a:off x="714240" y="1500120"/>
            <a:ext cx="7901280" cy="4554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Yhteinen luento + keskustelu valitusta teemas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Vertaisryhmätyöskentelyä</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Henkilökohtaista ohjausta/ työskentelyä ohjaajaryhmässä</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Gradujen ohjaus</a:t>
            </a:r>
            <a:endParaRPr b="0" lang="en-US" sz="4400" spc="-1" strike="noStrike">
              <a:solidFill>
                <a:srgbClr val="000000"/>
              </a:solidFill>
              <a:latin typeface="Calibri"/>
            </a:endParaRPr>
          </a:p>
        </p:txBody>
      </p:sp>
      <p:sp>
        <p:nvSpPr>
          <p:cNvPr id="66" name=""/>
          <p:cNvSpPr txBox="1"/>
          <p:nvPr/>
        </p:nvSpPr>
        <p:spPr>
          <a:xfrm>
            <a:off x="571680" y="1143000"/>
            <a:ext cx="8215200" cy="52149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Edutool-gradujen ohjaajina toimivat Hanna, Pirkko ja Sanna (etunimi.sukunimi@oulu.f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Ohjaajalta sinulla on mahdollisuus saada henkilökohtaista ohjausta graduprosessin aikana</a:t>
            </a:r>
            <a:endParaRPr b="0" lang="en-US" sz="2400" spc="-1" strike="noStrike">
              <a:solidFill>
                <a:srgbClr val="000000"/>
              </a:solidFill>
              <a:latin typeface="Calibri"/>
            </a:endParaRPr>
          </a:p>
          <a:p>
            <a:pPr lvl="1" marL="961920" indent="-509040">
              <a:spcBef>
                <a:spcPts val="4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Erityisesti järjestettyjä aikavälejä, jolloin voit varata ohjausajan</a:t>
            </a:r>
            <a:endParaRPr b="0" lang="en-US" sz="2000" spc="-1" strike="noStrike">
              <a:solidFill>
                <a:srgbClr val="000000"/>
              </a:solidFill>
              <a:latin typeface="Calibri"/>
            </a:endParaRPr>
          </a:p>
          <a:p>
            <a:pPr lvl="1" marL="961920" indent="-509040">
              <a:spcBef>
                <a:spcPts val="4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Sinun gradutyöskentelysi tarpeen mukaan (f2f, sähköposti)</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Ohjaustapaamiseen tulee valmistautua tekemällä muistiinpanot omaan gradublogiin viimeistään </a:t>
            </a:r>
            <a:r>
              <a:rPr b="1" lang="fi-FI" sz="2400" spc="-1" strike="noStrike">
                <a:solidFill>
                  <a:srgbClr val="000000"/>
                </a:solidFill>
                <a:latin typeface="Calibri"/>
              </a:rPr>
              <a:t>kaksi päivää</a:t>
            </a:r>
            <a:r>
              <a:rPr b="0" lang="fi-FI" sz="2400" spc="-1" strike="noStrike">
                <a:solidFill>
                  <a:srgbClr val="000000"/>
                </a:solidFill>
                <a:latin typeface="Calibri"/>
              </a:rPr>
              <a:t> ennen tapaamista</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Graduohjauksen resurssit ovat rajatut, joten käytäthän ohjauskiintiötäsi huolella!</a:t>
            </a:r>
            <a:endParaRPr b="0" lang="en-US" sz="2400" spc="-1" strike="noStrike">
              <a:solidFill>
                <a:srgbClr val="000000"/>
              </a:solidFill>
              <a:latin typeface="Calibri"/>
            </a:endParaRPr>
          </a:p>
          <a:p>
            <a:pPr lvl="1" marL="961920" indent="-509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557280" y="1857240"/>
          <a:ext cx="8229600" cy="3230640"/>
        </p:xfrm>
        <a:graphic>
          <a:graphicData uri="http://schemas.openxmlformats.org/drawingml/2006/table">
            <a:tbl>
              <a:tblPr/>
              <a:tblGrid>
                <a:gridCol w="2743200"/>
                <a:gridCol w="2743200"/>
                <a:gridCol w="274320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HAN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PIRKK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SAN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2710080">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Ink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Liis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Mari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Marj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Saar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Ta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Laur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Reet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Elin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Sirp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Sari</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äivi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Tiin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Annukk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Jouni</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Jaan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ristiina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Calibri"/>
              </a:rPr>
              <a:t>Ohjaajaryhmä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Vertaisryhmät</a:t>
            </a:r>
            <a:endParaRPr b="0" lang="en-US" sz="4400" spc="-1" strike="noStrike">
              <a:solidFill>
                <a:srgbClr val="000000"/>
              </a:solidFill>
              <a:latin typeface="Calibri"/>
            </a:endParaRPr>
          </a:p>
        </p:txBody>
      </p:sp>
      <p:sp>
        <p:nvSpPr>
          <p:cNvPr id="70" name=""/>
          <p:cNvSpPr txBox="1"/>
          <p:nvPr/>
        </p:nvSpPr>
        <p:spPr>
          <a:xfrm>
            <a:off x="928440" y="1428480"/>
            <a:ext cx="7643880" cy="450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Keskustelukumppanisi gradumatkan aikan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Työskentelyä graduseminaareissa ja verkos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Lisäksi ryhmä voi sopia keskenään tapaamis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Ryhmä sopii itse tavoitteet ja työskentelytav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Vertaisryhmät</a:t>
            </a:r>
            <a:endParaRPr b="0" lang="en-US" sz="4400" spc="-1" strike="noStrike">
              <a:solidFill>
                <a:srgbClr val="000000"/>
              </a:solidFill>
              <a:latin typeface="Calibri"/>
            </a:endParaRPr>
          </a:p>
        </p:txBody>
      </p:sp>
      <p:graphicFrame>
        <p:nvGraphicFramePr>
          <p:cNvPr id="72" name=""/>
          <p:cNvGraphicFramePr/>
          <p:nvPr/>
        </p:nvGraphicFramePr>
        <p:xfrm>
          <a:off x="457200" y="1600200"/>
          <a:ext cx="8115480" cy="4565520"/>
        </p:xfrm>
        <a:graphic>
          <a:graphicData uri="http://schemas.openxmlformats.org/drawingml/2006/table">
            <a:tbl>
              <a:tblPr/>
              <a:tblGrid>
                <a:gridCol w="4057560"/>
                <a:gridCol w="4057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alibri"/>
                        </a:rPr>
                        <a:t>VERTAISRYHMÄ 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alibri"/>
                        </a:rPr>
                        <a:t>VERTAISRYHMÄ 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172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ii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Ink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Saa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Elin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Ree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Mar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äiv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Annukk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alibri"/>
                        </a:rPr>
                        <a:t>VERTAISRYHMÄ 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alibri"/>
                        </a:rPr>
                        <a:t>VERTAISRYHMÄ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192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un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u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r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is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Jaa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ristii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Marj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Sirp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orinatuokio vertaisryhmissä</a:t>
            </a:r>
            <a:endParaRPr b="0" lang="en-US" sz="4400" spc="-1" strike="noStrike">
              <a:solidFill>
                <a:srgbClr val="000000"/>
              </a:solidFill>
              <a:latin typeface="Calibri"/>
            </a:endParaRPr>
          </a:p>
        </p:txBody>
      </p:sp>
      <p:sp>
        <p:nvSpPr>
          <p:cNvPr id="74" name=""/>
          <p:cNvSpPr txBox="1"/>
          <p:nvPr/>
        </p:nvSpPr>
        <p:spPr>
          <a:xfrm>
            <a:off x="785880" y="1571400"/>
            <a:ext cx="7858080" cy="4857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Miettikää ryhmällenne nimi</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Mikä on ryhmänne tavoit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Millaista tukea toivot saavasi ryhmältä graduprosessin aikana?</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Millaista tukea voit antaa muille ryhmäläisille?</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Millaiset ovat ryhmänne työskentelytavat?</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rPr>
              <a:t>Kootkaa lopuksi huomionne yhteen ja lähettäkää ne tiedoksi kaikille ryhmän jäsenille ja Niinalle sähköpostit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Tiistain 19.1. ohjelma</a:t>
            </a:r>
            <a:endParaRPr b="0" lang="en-US" sz="4400" spc="-1" strike="noStrike">
              <a:solidFill>
                <a:srgbClr val="000000"/>
              </a:solidFill>
              <a:latin typeface="Calibri"/>
            </a:endParaRPr>
          </a:p>
        </p:txBody>
      </p:sp>
      <p:sp>
        <p:nvSpPr>
          <p:cNvPr id="51" name=""/>
          <p:cNvSpPr txBox="1"/>
          <p:nvPr/>
        </p:nvSpPr>
        <p:spPr>
          <a:xfrm>
            <a:off x="999720" y="1499760"/>
            <a:ext cx="7572600" cy="5000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lo 8.15.-9.30 Alumniaamiaine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lo 9.30.-10.15 Maanantain palauteringin koonti /Niin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lo 10.15.-12 Gradu</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Kevään gradutyöskentely/ Niin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Tutkimussuunnitelma, aiheen rajaaminen ja kirjallisuuteen perehtyminen / Sanna</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lo 12-13 Loun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lo 13-14 Gradu: Työskentely vertaisryhmissä</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klo 14-15 Gradu: Työskentely ohjaajaryhmissä</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ounded Rectangular Callout 3"/>
          <p:cNvSpPr/>
          <p:nvPr/>
        </p:nvSpPr>
        <p:spPr>
          <a:xfrm>
            <a:off x="285840" y="642960"/>
            <a:ext cx="8572320" cy="5429160"/>
          </a:xfrm>
          <a:prstGeom prst="wedgeRoundRectCallout">
            <a:avLst>
              <a:gd name="adj1" fmla="val -837"/>
              <a:gd name="adj2" fmla="val 60282"/>
              <a:gd name="adj3" fmla="val 166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txBox="1"/>
          <p:nvPr/>
        </p:nvSpPr>
        <p:spPr>
          <a:xfrm>
            <a:off x="356760" y="1428480"/>
            <a:ext cx="8472600" cy="4686120"/>
          </a:xfrm>
          <a:prstGeom prst="rect">
            <a:avLst/>
          </a:prstGeom>
          <a:noFill/>
          <a:ln w="0">
            <a:noFill/>
          </a:ln>
        </p:spPr>
        <p:txBody>
          <a:bodyPr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Calibri"/>
              </a:rPr>
              <a:t>	</a:t>
            </a:r>
            <a:r>
              <a:rPr b="0" i="1" lang="fi-FI" sz="2000" spc="-1" strike="noStrike">
                <a:solidFill>
                  <a:srgbClr val="000000"/>
                </a:solidFill>
                <a:latin typeface="Calibri"/>
              </a:rPr>
              <a:t>No miten Edutool vaikutti? Todella merkittävästi. Minulla on uskomattomia kytkentöjä alan avaintekijöihin, työskentelen huipputiimissä  ja mahdollisuuteni kehittyä ovat rajattomia. Kontakteihini kuuluvat ACP-guru Risto Korhonen, pääsen vetämään sosiaalisen median opetusta Ville Venäläisen kanssa ja Kari Kiviniemi on työtoverini. Näistä asioista ja ihmisistä en uskaltanut edes unelmoida ennen Edutool-opintoja.</a:t>
            </a:r>
            <a:endParaRPr b="0" lang="en-US" sz="2000" spc="-1" strike="noStrike">
              <a:solidFill>
                <a:srgbClr val="000000"/>
              </a:solidFill>
              <a:latin typeface="Calibri"/>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Calibri"/>
              </a:rPr>
              <a:t>	</a:t>
            </a:r>
            <a:r>
              <a:rPr b="0" i="1" lang="fi-FI" sz="2000" spc="-1" strike="noStrike">
                <a:solidFill>
                  <a:srgbClr val="000000"/>
                </a:solidFill>
                <a:latin typeface="Calibri"/>
              </a:rPr>
              <a:t>Vielä eräs seikka: koska käytitte opetusmateriaalina uusia tieteellisiä julkaisuja, (Lave, Wenger ym. alan huiput) me tavallaan hypättiin kaiken keskenkertaisen yli ydinasioiden äärelle. Opetuksenne oli tavallaan ponnahduslautana kaiken epäolennaisen ylitse. Annoitte rinkan täynnä tarvikkeita, jotta voisimme kiivetä huipulle.</a:t>
            </a:r>
            <a:endParaRPr b="0" lang="en-US" sz="2000" spc="-1" strike="noStrike">
              <a:solidFill>
                <a:srgbClr val="000000"/>
              </a:solidFill>
              <a:latin typeface="Calibri"/>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Calibri"/>
              </a:rPr>
              <a:t>	</a:t>
            </a:r>
            <a:r>
              <a:rPr b="0" i="1" lang="fi-FI" sz="2000" spc="-1" strike="noStrike">
                <a:solidFill>
                  <a:srgbClr val="000000"/>
                </a:solidFill>
                <a:latin typeface="Calibri"/>
              </a:rPr>
              <a:t>Työtä tämä kyllä vaatii… paljon.</a:t>
            </a:r>
            <a:endParaRPr b="0" lang="en-US" sz="2000" spc="-1" strike="noStrike">
              <a:solidFill>
                <a:srgbClr val="000000"/>
              </a:solidFill>
              <a:latin typeface="Calibri"/>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	</a:t>
            </a:r>
            <a:r>
              <a:rPr b="0" lang="fi-FI" sz="2000" spc="-1" strike="noStrike">
                <a:solidFill>
                  <a:srgbClr val="000000"/>
                </a:solidFill>
                <a:latin typeface="Calibri"/>
              </a:rPr>
              <a:t>	</a:t>
            </a:r>
            <a:r>
              <a:rPr b="0" lang="fi-FI" sz="2000" spc="-1" strike="noStrike">
                <a:solidFill>
                  <a:srgbClr val="000000"/>
                </a:solidFill>
                <a:latin typeface="Calibri"/>
              </a:rPr>
              <a:t>	</a:t>
            </a:r>
            <a:r>
              <a:rPr b="0" lang="fi-FI" sz="2000" spc="-1" strike="noStrike">
                <a:solidFill>
                  <a:srgbClr val="000000"/>
                </a:solidFill>
                <a:latin typeface="Calibri"/>
              </a:rPr>
              <a:t>	</a:t>
            </a:r>
            <a:r>
              <a:rPr b="0" lang="fi-FI" sz="2000" spc="-1" strike="noStrike">
                <a:solidFill>
                  <a:srgbClr val="000000"/>
                </a:solidFill>
                <a:latin typeface="Calibri"/>
              </a:rPr>
              <a:t>	</a:t>
            </a:r>
            <a:r>
              <a:rPr b="0" lang="fi-FI" sz="2000" spc="-1" strike="noStrike">
                <a:solidFill>
                  <a:srgbClr val="000000"/>
                </a:solidFill>
                <a:latin typeface="Calibri"/>
              </a:rPr>
              <a:t>	</a:t>
            </a:r>
            <a:r>
              <a:rPr b="0" lang="fi-FI" sz="2000" spc="-1" strike="noStrike">
                <a:solidFill>
                  <a:srgbClr val="000000"/>
                </a:solidFill>
                <a:latin typeface="Calibri"/>
              </a:rPr>
              <a:t>Tiiu Tenno, opettaja</a:t>
            </a:r>
            <a:endParaRPr b="0" lang="en-US" sz="2000" spc="-1" strike="noStrike">
              <a:solidFill>
                <a:srgbClr val="000000"/>
              </a:solidFill>
              <a:latin typeface="Calibri"/>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Calibri"/>
              </a:rPr>
              <a:t>	</a:t>
            </a:r>
            <a:r>
              <a:rPr b="0" i="1" lang="fi-FI" sz="1800" spc="-1" strike="noStrike">
                <a:solidFill>
                  <a:srgbClr val="000000"/>
                </a:solidFill>
                <a:latin typeface="Calibri"/>
              </a:rPr>
              <a:t>	</a:t>
            </a:r>
            <a:r>
              <a:rPr b="0" i="1" lang="fi-FI" sz="1800" spc="-1" strike="noStrike">
                <a:solidFill>
                  <a:srgbClr val="000000"/>
                </a:solidFill>
                <a:latin typeface="Calibri"/>
              </a:rPr>
              <a:t>	</a:t>
            </a:r>
            <a:r>
              <a:rPr b="0" i="1" lang="fi-FI" sz="1800" spc="-1" strike="noStrike">
                <a:solidFill>
                  <a:srgbClr val="000000"/>
                </a:solidFill>
                <a:latin typeface="Calibri"/>
              </a:rPr>
              <a:t>	</a:t>
            </a:r>
            <a:r>
              <a:rPr b="0" i="1" lang="fi-FI" sz="1800" spc="-1" strike="noStrike">
                <a:solidFill>
                  <a:srgbClr val="000000"/>
                </a:solidFill>
                <a:latin typeface="Calibri"/>
              </a:rPr>
              <a:t>	</a:t>
            </a:r>
            <a:r>
              <a:rPr b="0" i="1" lang="fi-FI" sz="1800" spc="-1" strike="noStrike">
                <a:solidFill>
                  <a:srgbClr val="000000"/>
                </a:solidFill>
                <a:latin typeface="Calibri"/>
              </a:rPr>
              <a:t>	</a:t>
            </a:r>
            <a:endParaRPr b="0" lang="en-US" sz="1800" spc="-1" strike="noStrike">
              <a:solidFill>
                <a:srgbClr val="000000"/>
              </a:solidFill>
              <a:latin typeface="Calibri"/>
            </a:endParaRPr>
          </a:p>
          <a:p>
            <a:pPr marL="305280" indent="-3052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ounded Rectangular Callout 3"/>
          <p:cNvSpPr/>
          <p:nvPr/>
        </p:nvSpPr>
        <p:spPr>
          <a:xfrm>
            <a:off x="285840" y="642960"/>
            <a:ext cx="8572320" cy="5429160"/>
          </a:xfrm>
          <a:prstGeom prst="wedgeRoundRectCallout">
            <a:avLst>
              <a:gd name="adj1" fmla="val -837"/>
              <a:gd name="adj2" fmla="val 60282"/>
              <a:gd name="adj3" fmla="val 166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txBox="1"/>
          <p:nvPr/>
        </p:nvSpPr>
        <p:spPr>
          <a:xfrm>
            <a:off x="457200" y="11430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    </a:t>
            </a:r>
            <a:r>
              <a:rPr b="0" i="1" lang="fi-FI" sz="3200" spc="-1" strike="noStrike">
                <a:solidFill>
                  <a:srgbClr val="000000"/>
                </a:solidFill>
                <a:latin typeface="Calibri"/>
              </a:rPr>
              <a:t>Yksi Edutoolin hyöty minulle oli se, että totesin pitäväni tosi paljon omasta muuttuvasta ja monitahoisesta työstäni yläasteell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	</a:t>
            </a:r>
            <a:r>
              <a:rPr b="0" lang="fi-FI" sz="3200" spc="-1" strike="noStrike">
                <a:solidFill>
                  <a:srgbClr val="000000"/>
                </a:solidFill>
                <a:latin typeface="Calibri"/>
              </a:rPr>
              <a:t>Kirsi Katajainen, opettaj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857160" y="642960"/>
            <a:ext cx="7786800" cy="5572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Arial"/>
              </a:rPr>
              <a:t>Pohtikaa tässä pöydässä </a:t>
            </a:r>
            <a:endParaRPr b="0" lang="en-US" sz="36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Arial"/>
              </a:rPr>
              <a:t> </a:t>
            </a:r>
            <a:r>
              <a:rPr b="0" lang="fi-FI" sz="3000" spc="-1" strike="noStrike">
                <a:solidFill>
                  <a:srgbClr val="000000"/>
                </a:solidFill>
                <a:latin typeface="Arial"/>
              </a:rPr>
              <a:t>Miten opintojen ohjaus on onnistunut?</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Arial"/>
              </a:rPr>
              <a:t> </a:t>
            </a:r>
            <a:r>
              <a:rPr b="0" lang="fi-FI" sz="3000" spc="-1" strike="noStrike">
                <a:solidFill>
                  <a:srgbClr val="000000"/>
                </a:solidFill>
                <a:latin typeface="Arial"/>
              </a:rPr>
              <a:t>Miten opintojen tiedottaminen on toiminut?</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Arial"/>
              </a:rPr>
              <a:t> </a:t>
            </a:r>
            <a:r>
              <a:rPr b="0" lang="fi-FI" sz="3000" spc="-1" strike="noStrike">
                <a:solidFill>
                  <a:srgbClr val="000000"/>
                </a:solidFill>
                <a:latin typeface="Arial"/>
              </a:rPr>
              <a:t>Miten olet itse vaikuttanut opintojen edistymiseen?</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Arial"/>
              </a:rPr>
              <a:t> </a:t>
            </a:r>
            <a:r>
              <a:rPr b="0" lang="fi-FI" sz="3000" spc="-1" strike="noStrike">
                <a:solidFill>
                  <a:srgbClr val="000000"/>
                </a:solidFill>
                <a:latin typeface="Arial"/>
              </a:rPr>
              <a:t>Millaisia kehittämisehdotuksia teillä on ohjaukseen ja tiedottamise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009440" y="769680"/>
            <a:ext cx="7273800" cy="5391000"/>
          </a:xfrm>
          <a:prstGeom prst="rect">
            <a:avLst/>
          </a:prstGeom>
          <a:noFill/>
          <a:ln w="0">
            <a:noFill/>
          </a:ln>
        </p:spPr>
        <p:txBody>
          <a:bodyPr anchor="t">
            <a:normAutofit/>
          </a:bodyPr>
          <a:p>
            <a:pPr marL="341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Calibri"/>
              </a:rPr>
              <a:t>Pohtikaa tässä pöydässä </a:t>
            </a:r>
            <a:endParaRPr b="0" lang="en-US" sz="3600" spc="-1" strike="noStrike">
              <a:solidFill>
                <a:srgbClr val="000000"/>
              </a:solidFill>
              <a:latin typeface="Calibri"/>
            </a:endParaRPr>
          </a:p>
          <a:p>
            <a:pPr marL="341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Mitä olette pitäneet opintojen työskentelytavoista (esim. lähiopetukset, itsenäinen- ja verkkotyöskentely,  käytetyt teknologiat, arviointi)?</a:t>
            </a:r>
            <a:endParaRPr b="0" lang="en-US" sz="3000" spc="-1" strike="noStrike">
              <a:solidFill>
                <a:srgbClr val="000000"/>
              </a:solidFill>
              <a:latin typeface="Calibri"/>
            </a:endParaRPr>
          </a:p>
          <a:p>
            <a:pPr marL="341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Miten opintojen aikataulutus on toiminut?</a:t>
            </a:r>
            <a:endParaRPr b="0" lang="en-US" sz="3000" spc="-1" strike="noStrike">
              <a:solidFill>
                <a:srgbClr val="000000"/>
              </a:solidFill>
              <a:latin typeface="Calibri"/>
            </a:endParaRPr>
          </a:p>
          <a:p>
            <a:pPr marL="3412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Millaisia kehittämisehdotuksia  teillä on työskentelytapoihin ja aikatauluihi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928800" y="499680"/>
            <a:ext cx="7324560" cy="5057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Calibri"/>
              </a:rPr>
              <a:t>Pohtikaa tässä pöydässä </a:t>
            </a:r>
            <a:endParaRPr b="0" lang="en-US" sz="36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Mitä olette oppineet Edutool-opinnoissa tähän mennessä? </a:t>
            </a:r>
            <a:endParaRPr b="0" lang="en-US" sz="3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Mitä olette pitäneet opintojen sisällöistä? Ovatko sisällöt vastanneet odotuksianne? </a:t>
            </a:r>
            <a:endParaRPr b="0" lang="en-US" sz="3000" spc="-1" strike="noStrike">
              <a:solidFill>
                <a:srgbClr val="000000"/>
              </a:solidFill>
              <a:latin typeface="Calibri"/>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Millaisia toiveita teillä on tulevien opintojaksojen sisältöihin ja työskentelyy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Opintosuunnitelmat blogissa</a:t>
            </a:r>
            <a:endParaRPr b="0" lang="en-US" sz="4400" spc="-1" strike="noStrike">
              <a:solidFill>
                <a:srgbClr val="000000"/>
              </a:solidFill>
              <a:latin typeface="Calibri"/>
            </a:endParaRPr>
          </a:p>
        </p:txBody>
      </p:sp>
      <p:sp>
        <p:nvSpPr>
          <p:cNvPr id="60" name=""/>
          <p:cNvSpPr txBox="1"/>
          <p:nvPr/>
        </p:nvSpPr>
        <p:spPr>
          <a:xfrm>
            <a:off x="856800" y="1571760"/>
            <a:ext cx="7572600" cy="464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Oletko palauttanut blogiisi gradutyöskentelyn opintosuunnitelman?  Jos et, tee se viipymättä!</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548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Kevään 2010 gradutyöskentely</a:t>
            </a:r>
            <a:endParaRPr b="0" lang="en-US" sz="4400" spc="-1" strike="noStrike">
              <a:solidFill>
                <a:srgbClr val="000000"/>
              </a:solidFill>
              <a:latin typeface="Calibri"/>
            </a:endParaRPr>
          </a:p>
        </p:txBody>
      </p:sp>
      <p:graphicFrame>
        <p:nvGraphicFramePr>
          <p:cNvPr id="62" name=""/>
          <p:cNvGraphicFramePr/>
          <p:nvPr/>
        </p:nvGraphicFramePr>
        <p:xfrm>
          <a:off x="357120" y="1365120"/>
          <a:ext cx="8501040" cy="5207040"/>
        </p:xfrm>
        <a:graphic>
          <a:graphicData uri="http://schemas.openxmlformats.org/drawingml/2006/table">
            <a:tbl>
              <a:tblPr/>
              <a:tblGrid>
                <a:gridCol w="2428920"/>
                <a:gridCol w="6072120"/>
              </a:tblGrid>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AIK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SISÄLT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109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19.1.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Graduseminaari: Tutkimussuunnitelma, aiheen rajaaminen ja kirjallisuuteen perehtymin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Tammi-helmiku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Henkilökohtaiset ohjaukset 45 min., aika sovitaan ohjaajan kanss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2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Tutkimussuunnitelman palau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23.3.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Graduseminaari: Aineiston keru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2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Graduseminaari: Aihe tarkentuu myöhemmi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2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Graduseminaari: Oman gradun vaiheen esittely ja suunnitelmat kesäks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08:18:46Z</dcterms:created>
  <dc:creator>Niina Impiö</dc:creator>
  <dc:description/>
  <dc:language>en-US</dc:language>
  <cp:lastModifiedBy>noikar</cp:lastModifiedBy>
  <dcterms:modified xsi:type="dcterms:W3CDTF">2010-01-21T10:59:30Z</dcterms:modified>
  <cp:revision>45</cp:revision>
  <dc:subject/>
  <dc:title>Slide 1</dc:title>
</cp:coreProperties>
</file>